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0BA-EDD0-46DB-B803-9885BF6A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3AC-4CE3-4C68-B5CE-D1A3771E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38B-C639-4119-8F48-2212E2B8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45A-E745-4F36-8CB1-8F2BDCC3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E551-179E-4FF4-B864-1DC6645B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7998-0C63-4F30-A826-AC71EDB2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A08E-C0E5-4482-9D6D-0A78D8F3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6552-C663-4D36-813C-EC15C2E8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1C80-ABBF-4570-ACB2-8C77C979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C626-1A9C-40EF-9263-6BE66012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7403-1AC7-4B75-AA96-6D2DD48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DE0-0173-4889-A03D-A635AFB5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F779-DC2B-4E2A-9DDA-BE00A6CC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7695-5550-4FCA-82E3-5A101CEF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2969-2F71-4417-A0C6-D542C827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54E5-5751-49FA-A830-14F8815B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F97C-F819-4212-8608-3DC69B3B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D60-0F22-4FC8-B19B-E423D0A5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94A-0D97-45C3-80CF-9578B255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56B-BC9A-422C-812F-49CB34A1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7D6-DF4D-400F-A679-FB0F99E0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F62-2316-471F-9C62-2E0F8588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32F-F94E-45E4-AE68-E93123B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80F-86AD-4369-B57C-A6D3304E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F262-17CF-43BE-BD27-E4222D5213D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3431-A28A-43E1-AE93-E255C09BA14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ga.gov/kids/zone/mobile.htm" TargetMode="External"/><Relationship Id="rId3" Type="http://schemas.openxmlformats.org/officeDocument/2006/relationships/hyperlink" Target="http://www.nga.gov/kids/zone/mobile.htm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hefutureschannel.com/hands-on_math/skateboard_flex.php" TargetMode="External"/><Relationship Id="rId3" Type="http://schemas.openxmlformats.org/officeDocument/2006/relationships/hyperlink" Target="http://www.thefutureschannel.com/hands-on_math/skateboard_flex.php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alance and Weigh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ame _______________________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sson 4 Moving the Fulcru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ote that the focus of this lesson is moving the fulcrum to obtain balan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aw attention to Record Sheet 4-A. Ask the teams to make an “x” on the beam in each drawing to indicate where they predict the fulcrum should be placed to create balance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n let them test their prediction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oint out the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ote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under step 2 on p. 29 that recommend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oving the beam instead of the fulcru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Lesson 5 Building Mobil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695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ms gather paper clips, red squares, straws, beam and tape or text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Mobile Engageme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www.nga.gov/kids/zone/mobile.ht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lossar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ke: Acting or looking the sam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: A tool used to compare weigh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balance: A device used to compare the weight of tw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. A beam balance consists of a beam and a fulcrum. Th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of the fulcrum can be changed, and the weights can b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d anywhere on the beam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: To share ideas on a topic. People often brainstorm t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a problem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: To share information and ideas through speaking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, or drawing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: To look at two or more things to see how they are alik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different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: Information, such as that gathered during an experiment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6858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-arm balance: A device used to compare the weight of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. The position of the fulcrum and the posi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s are f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 A procedure that is carried out to investigat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tific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 test: A test that compares two or more things by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the same except the thing being compared. A race i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 test. Everyone starts at the same place and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nds at the same place. The only thing that is different i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of the run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crum: The support on which a beam balance rests;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n which a lever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: A diagram used to show the relationship between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: To give an idea about something when you are not 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685800"/>
            <a:ext cx="7620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: To study something closely and in an organized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: The distance from one end of something to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plot: A type of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: To find out the length, size, or weight of 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: A hanging piece of art. It is made up of many part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balanced at different pos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: Something you can see or fe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: To use your senses to study something clos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n: A repeating arrangement of shapes, colors, numbers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: To locate a point or points on a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Balancing and Weigh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s a 17-lesson unit designed for second grad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6340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s 1-5, they explore ways to create balance and use a beam bala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s 6-9, students compare objects using an equal-arm bala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 10, students are introduced to weighing with the equal-arm balance, and they record weights in data tabl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 11, students use the recorded weights from lesson 10 to make bar graph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s 12-15, students use their skills to investigate problems dealing with the weights and volumes of four food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 16, students use the skills and concepts they have developed to solve a myster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 17, students assess what they have learned about balancing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alance Engageme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you been on a skateboard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t’s observe how a skateboard can help you balan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thefutureschannel.com/hands-on_math/skateboard_flex.ph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ist ways to balance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79440" y="1600200"/>
            <a:ext cx="5257440" cy="4524840"/>
            <a:chOff x="1279440" y="1600200"/>
            <a:chExt cx="5257440" cy="4524840"/>
          </a:xfrm>
        </p:grpSpPr>
        <p:cxnSp>
          <p:nvCxnSpPr>
            <p:cNvPr id="90" name="_s8211"/>
            <p:cNvCxnSpPr>
              <a:stCxn id="91" idx="0"/>
              <a:endCxn id="92" idx="2"/>
            </p:cNvCxnSpPr>
            <p:nvPr/>
          </p:nvCxnSpPr>
          <p:spPr>
            <a:xfrm flipV="1" rot="16200000">
              <a:off x="5465880" y="4709520"/>
              <a:ext cx="566280" cy="216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8209"/>
            <p:cNvCxnSpPr>
              <a:stCxn id="94" idx="0"/>
              <a:endCxn id="95" idx="2"/>
            </p:cNvCxnSpPr>
            <p:nvPr/>
          </p:nvCxnSpPr>
          <p:spPr>
            <a:xfrm flipV="1" rot="16200000">
              <a:off x="3625560" y="4709520"/>
              <a:ext cx="566280" cy="216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8207"/>
            <p:cNvCxnSpPr>
              <a:stCxn id="97" idx="0"/>
              <a:endCxn id="98" idx="2"/>
            </p:cNvCxnSpPr>
            <p:nvPr/>
          </p:nvCxnSpPr>
          <p:spPr>
            <a:xfrm flipV="1" rot="16200000">
              <a:off x="1785240" y="4709520"/>
              <a:ext cx="566280" cy="216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8204"/>
            <p:cNvCxnSpPr>
              <a:stCxn id="92" idx="0"/>
              <a:endCxn id="100" idx="2"/>
            </p:cNvCxnSpPr>
            <p:nvPr/>
          </p:nvCxnSpPr>
          <p:spPr>
            <a:xfrm flipV="1" rot="16200000">
              <a:off x="4544640" y="2093400"/>
              <a:ext cx="566280" cy="184068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8203"/>
            <p:cNvCxnSpPr>
              <a:stCxn id="95" idx="0"/>
              <a:endCxn id="100" idx="2"/>
            </p:cNvCxnSpPr>
            <p:nvPr/>
          </p:nvCxnSpPr>
          <p:spPr>
            <a:xfrm flipV="1">
              <a:off x="3908160" y="2730600"/>
              <a:ext cx="2160" cy="56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8202"/>
            <p:cNvCxnSpPr>
              <a:stCxn id="98" idx="0"/>
              <a:endCxn id="100" idx="2"/>
            </p:cNvCxnSpPr>
            <p:nvPr/>
          </p:nvCxnSpPr>
          <p:spPr>
            <a:xfrm flipH="1" flipV="1" rot="5400000">
              <a:off x="2704680" y="2093400"/>
              <a:ext cx="566280" cy="184068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8198"/>
            <p:cNvSpPr/>
            <p:nvPr/>
          </p:nvSpPr>
          <p:spPr>
            <a:xfrm>
              <a:off x="3119400" y="1600200"/>
              <a:ext cx="15771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Ways to bal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199"/>
            <p:cNvSpPr/>
            <p:nvPr/>
          </p:nvSpPr>
          <p:spPr>
            <a:xfrm>
              <a:off x="1279440" y="3296880"/>
              <a:ext cx="15771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200"/>
            <p:cNvSpPr/>
            <p:nvPr/>
          </p:nvSpPr>
          <p:spPr>
            <a:xfrm>
              <a:off x="3119400" y="3296880"/>
              <a:ext cx="15771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1"/>
            <p:cNvSpPr/>
            <p:nvPr/>
          </p:nvSpPr>
          <p:spPr>
            <a:xfrm>
              <a:off x="4959720" y="3296880"/>
              <a:ext cx="15771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206"/>
            <p:cNvSpPr/>
            <p:nvPr/>
          </p:nvSpPr>
          <p:spPr>
            <a:xfrm>
              <a:off x="1280880" y="4993920"/>
              <a:ext cx="15753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208"/>
            <p:cNvSpPr/>
            <p:nvPr/>
          </p:nvSpPr>
          <p:spPr>
            <a:xfrm>
              <a:off x="3121200" y="4993920"/>
              <a:ext cx="15753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10"/>
            <p:cNvSpPr/>
            <p:nvPr/>
          </p:nvSpPr>
          <p:spPr>
            <a:xfrm>
              <a:off x="4961160" y="4993920"/>
              <a:ext cx="15753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esson 1 Thinking about Balanc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595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ave teams balance the butterfly figure on the pencil eras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out the jumbo paper clips. Have them attach the paper clip to the butterfly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ow does this change the balance?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cord in Balance and Weighing notebo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esson 2 Building Structures that Balance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out the beam, fulcrum, and connecting cubes. Ask the students to use these materials to build structur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ave students draw their structures in their Balance and Weighing notebook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oose several student to draw on the board and share their steps for balancing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esson 3 Exploring the Bea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687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udents explore the relationshi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etween balance an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ss by varying the numb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position of connecting cub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761760"/>
            <a:ext cx="691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sson 3 Exploring the Beam Balance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monstrate the balance beam with the beam balanced on the fulcrum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fer to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rocedure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n p. 18.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them try different combinations of 10  cubes to balance the beam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ave participants fill in Record Sheet 3-A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*Ask the questions under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al Activitie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eps 1and 2 on p. 19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Julie’s Balancing Ac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702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Optional: Have them read “Julie’s Balancing Act”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ading Sele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. 23-25). Ask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are some ways you might relate this story to the activities you just completed?”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ow might you relate this sto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things you do?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1:50:21Z</dcterms:created>
  <dc:creator>MCSB</dc:creator>
  <dc:description/>
  <cp:keywords/>
  <dc:language>en-US</dc:language>
  <cp:lastModifiedBy>MCSB</cp:lastModifiedBy>
  <dcterms:modified xsi:type="dcterms:W3CDTF">2009-08-08T05:00:41Z</dcterms:modified>
  <cp:revision>7</cp:revision>
  <dc:subject/>
  <dc:title>Balance and Weigh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